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4C1-FB5B-4584-A5B0-6846615A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7AE-CD62-4B33-8A32-B08F3DD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3E6-EA6F-4C04-860E-0A6B214D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A58-E466-49CD-9F18-3392A630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1C9-17A9-4F5A-B75C-A34FED16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1FF-FAFC-485C-B2A8-424A9514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275-EE43-44DC-B7D7-EC83E77C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F18-CCEB-4198-AD05-A12AF4B6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5C5-40A8-42F7-8541-CF893D49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218-A9ED-4715-97DA-B38465C5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8FE-BF38-4801-8E79-4DDA7D2C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3B5-DB71-4FDD-8401-DE4A889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A6AF-103E-4297-BEF7-4FB1AAA2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800" y="869400"/>
            <a:ext cx="649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- a) Di cuáles las siguientes moléculas son glúcidos.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, 3, 4, 5, 8 y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) Di a qué tipo de glúcidos se corresponden según las clasificaciones que hemos estudi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) Indica dónde están en cada glúcido los grupos funcionales que los caracteriz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) ¿Cómo se llama cada uno de esos glúcido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4680" y="3240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jercicios de repaso de Bioquím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81000"/>
            <a:ext cx="122580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4040" y="3621240"/>
            <a:ext cx="949320" cy="117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28640" y="2195640"/>
            <a:ext cx="3492720" cy="43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9360" y="364968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560" y="1835280"/>
            <a:ext cx="682920" cy="137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5602320" y="1835280"/>
          <a:ext cx="851040" cy="130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02320" y="1835280"/>
                    <a:ext cx="85104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13000" y="521964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060640" y="3576600"/>
            <a:ext cx="280836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790640" y="6494400"/>
            <a:ext cx="2718000" cy="25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89000" y="5148360"/>
          <a:ext cx="2160360" cy="94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9000" y="5148360"/>
                    <a:ext cx="216036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373720" y="5076720"/>
            <a:ext cx="1008000" cy="1005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15920" y="2264400"/>
            <a:ext cx="360360" cy="307080"/>
            <a:chOff x="115920" y="2264400"/>
            <a:chExt cx="360360" cy="307080"/>
          </a:xfrm>
        </p:grpSpPr>
        <p:sp>
          <p:nvSpPr>
            <p:cNvPr id="57" name=""/>
            <p:cNvSpPr/>
            <p:nvPr/>
          </p:nvSpPr>
          <p:spPr>
            <a:xfrm>
              <a:off x="149400" y="22766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5920" y="22644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339920" y="2267280"/>
            <a:ext cx="360360" cy="307080"/>
            <a:chOff x="1339920" y="2267280"/>
            <a:chExt cx="360360" cy="307080"/>
          </a:xfrm>
        </p:grpSpPr>
        <p:sp>
          <p:nvSpPr>
            <p:cNvPr id="60" name=""/>
            <p:cNvSpPr/>
            <p:nvPr/>
          </p:nvSpPr>
          <p:spPr>
            <a:xfrm>
              <a:off x="137340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992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29360" y="2267280"/>
            <a:ext cx="360360" cy="307080"/>
            <a:chOff x="5229360" y="2267280"/>
            <a:chExt cx="360360" cy="307080"/>
          </a:xfrm>
        </p:grpSpPr>
        <p:sp>
          <p:nvSpPr>
            <p:cNvPr id="63" name=""/>
            <p:cNvSpPr/>
            <p:nvPr/>
          </p:nvSpPr>
          <p:spPr>
            <a:xfrm>
              <a:off x="5262840" y="2279520"/>
              <a:ext cx="29304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29360" y="2267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5920" y="3864600"/>
            <a:ext cx="360360" cy="307080"/>
            <a:chOff x="115920" y="3864600"/>
            <a:chExt cx="360360" cy="307080"/>
          </a:xfrm>
        </p:grpSpPr>
        <p:sp>
          <p:nvSpPr>
            <p:cNvPr id="66" name=""/>
            <p:cNvSpPr/>
            <p:nvPr/>
          </p:nvSpPr>
          <p:spPr>
            <a:xfrm>
              <a:off x="149400" y="387684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920" y="38646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700280" y="4007520"/>
            <a:ext cx="360360" cy="307080"/>
            <a:chOff x="1700280" y="4007520"/>
            <a:chExt cx="360360" cy="307080"/>
          </a:xfrm>
        </p:grpSpPr>
        <p:sp>
          <p:nvSpPr>
            <p:cNvPr id="69" name=""/>
            <p:cNvSpPr/>
            <p:nvPr/>
          </p:nvSpPr>
          <p:spPr>
            <a:xfrm>
              <a:off x="173376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028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084640" y="4007520"/>
            <a:ext cx="360360" cy="307080"/>
            <a:chOff x="5084640" y="4007520"/>
            <a:chExt cx="360360" cy="307080"/>
          </a:xfrm>
        </p:grpSpPr>
        <p:sp>
          <p:nvSpPr>
            <p:cNvPr id="72" name=""/>
            <p:cNvSpPr/>
            <p:nvPr/>
          </p:nvSpPr>
          <p:spPr>
            <a:xfrm>
              <a:off x="5118120" y="40197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4640" y="40075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5920" y="5418720"/>
            <a:ext cx="360360" cy="307080"/>
            <a:chOff x="115920" y="5418720"/>
            <a:chExt cx="360360" cy="307080"/>
          </a:xfrm>
        </p:grpSpPr>
        <p:sp>
          <p:nvSpPr>
            <p:cNvPr id="75" name=""/>
            <p:cNvSpPr/>
            <p:nvPr/>
          </p:nvSpPr>
          <p:spPr>
            <a:xfrm>
              <a:off x="1494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9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854440" y="5418720"/>
            <a:ext cx="360360" cy="307080"/>
            <a:chOff x="2854440" y="5418720"/>
            <a:chExt cx="360360" cy="307080"/>
          </a:xfrm>
        </p:grpSpPr>
        <p:sp>
          <p:nvSpPr>
            <p:cNvPr id="78" name=""/>
            <p:cNvSpPr/>
            <p:nvPr/>
          </p:nvSpPr>
          <p:spPr>
            <a:xfrm>
              <a:off x="288792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5444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41720" y="5418720"/>
            <a:ext cx="360360" cy="307080"/>
            <a:chOff x="4941720" y="5418720"/>
            <a:chExt cx="360360" cy="307080"/>
          </a:xfrm>
        </p:grpSpPr>
        <p:sp>
          <p:nvSpPr>
            <p:cNvPr id="81" name=""/>
            <p:cNvSpPr/>
            <p:nvPr/>
          </p:nvSpPr>
          <p:spPr>
            <a:xfrm>
              <a:off x="4975200" y="5430960"/>
              <a:ext cx="293040" cy="27864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1720" y="5418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413000" y="7074360"/>
            <a:ext cx="431640" cy="307080"/>
            <a:chOff x="1413000" y="7074360"/>
            <a:chExt cx="431640" cy="307080"/>
          </a:xfrm>
        </p:grpSpPr>
        <p:sp>
          <p:nvSpPr>
            <p:cNvPr id="84" name=""/>
            <p:cNvSpPr/>
            <p:nvPr/>
          </p:nvSpPr>
          <p:spPr>
            <a:xfrm>
              <a:off x="1452960" y="7086600"/>
              <a:ext cx="351000" cy="279000"/>
            </a:xfrm>
            <a:prstGeom prst="bevel">
              <a:avLst>
                <a:gd name="adj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000" y="7074360"/>
              <a:ext cx="43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508da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" y="3141720"/>
            <a:ext cx="228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 Gluc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3059280"/>
            <a:ext cx="23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cetosa, hexosa Fru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" y="46069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triosa Glicer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67840" y="4646520"/>
            <a:ext cx="9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aca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5440" y="6242040"/>
            <a:ext cx="225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Monosacárido, aldosa, hex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Galact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33760" y="81136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Polisacár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0000"/>
                </a:solidFill>
                <a:latin typeface="Arial"/>
              </a:rPr>
              <a:t>Dext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41360" y="183528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81040" y="17892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alcohol o hidroxi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1760" y="2124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7680" y="234648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5686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39680" y="403560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6160" y="2797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7080" y="30351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42847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08800" y="22906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6920" y="24843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46920" y="2674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3000" y="284328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8040" y="423720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84440" y="35323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936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7200" y="36799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16280" y="457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21000" y="41403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42498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0200" y="51609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3920" y="54356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0280" y="572436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6143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0640" y="5827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6640" y="7216920"/>
            <a:ext cx="21564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79720" y="68961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1120" y="699444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81360" y="710568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73422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8280" y="795672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97360" y="70200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13000" y="7812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802800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2040" y="8510760"/>
            <a:ext cx="216000" cy="215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41920" y="844056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05360" y="874872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5920" y="197964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22760" y="1920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rupo carbonilo c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3920" y="2124000"/>
            <a:ext cx="433440" cy="216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7720" y="1692360"/>
            <a:ext cx="433080" cy="215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23120" y="1692360"/>
            <a:ext cx="189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Grupo carbonilo aldehí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7120" y="1795320"/>
            <a:ext cx="504720" cy="2876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440" y="3668760"/>
            <a:ext cx="504720" cy="287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22:27Z</dcterms:created>
  <dc:creator>Alberto</dc:creator>
  <dc:description/>
  <dc:language>en-US</dc:language>
  <cp:lastModifiedBy>Alberto</cp:lastModifiedBy>
  <dcterms:modified xsi:type="dcterms:W3CDTF">2010-01-23T09:00:57Z</dcterms:modified>
  <cp:revision>7</cp:revision>
  <dc:subject/>
  <dc:title>Diapositiva 1</dc:title>
</cp:coreProperties>
</file>