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1483-600A-4648-B8EE-C70B2FDF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9D48-C61F-41C9-B268-2CE6836C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D5A-9496-4DC3-954A-0928BCAD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B67F-DA88-4B06-8BEE-27FCA12C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5D69-3169-4DB7-8A14-DCDE0318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3B57-DD48-452E-8DB6-0F3C3093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2774-0F20-4579-965A-C593268F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398B-EF43-4BDF-83C6-870B0219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CDE6-8509-49D6-B5AD-88A865F5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94E1-7E53-4E8F-A743-F9C1F8C0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5FF2-4B96-4271-B127-401B443B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3948-B04F-4DAC-BF09-A86DB1B8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8442-B077-4172-999B-D1CF48DF6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1800" y="869400"/>
            <a:ext cx="649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.- a) Di cuáles las siguientes moléculas son glúcidos.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1, 3, 4, 5, 8 y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) Di a qué tipo de glúcidos se corresponden según las clasificaciones que hemos estudi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) Indica dónde están en cada glúcido los grupos funcionales que los caracteriz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) ¿Cómo se llama cada uno de esos glúcidos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14680" y="32400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Ejercicios de repaso de Bioquím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Glú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27560" y="81000"/>
            <a:ext cx="1225800" cy="961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04040" y="3621240"/>
            <a:ext cx="949320" cy="1179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628640" y="2195640"/>
            <a:ext cx="3492720" cy="43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49360" y="3649680"/>
            <a:ext cx="717480" cy="1066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47560" y="1835280"/>
            <a:ext cx="682920" cy="137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5602320" y="1835280"/>
          <a:ext cx="851040" cy="1306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02320" y="1835280"/>
                    <a:ext cx="85104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213000" y="5219640"/>
            <a:ext cx="1150920" cy="108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2060640" y="3576600"/>
            <a:ext cx="2808360" cy="1165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790640" y="6494400"/>
            <a:ext cx="2718000" cy="254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89000" y="5148360"/>
          <a:ext cx="2160360" cy="942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9000" y="5148360"/>
                    <a:ext cx="216036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5373720" y="5076720"/>
            <a:ext cx="1008000" cy="10051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15920" y="2264400"/>
            <a:ext cx="360360" cy="307080"/>
            <a:chOff x="115920" y="2264400"/>
            <a:chExt cx="360360" cy="307080"/>
          </a:xfrm>
        </p:grpSpPr>
        <p:sp>
          <p:nvSpPr>
            <p:cNvPr id="57" name=""/>
            <p:cNvSpPr/>
            <p:nvPr/>
          </p:nvSpPr>
          <p:spPr>
            <a:xfrm>
              <a:off x="149400" y="227664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5920" y="22644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339920" y="2267280"/>
            <a:ext cx="360360" cy="307080"/>
            <a:chOff x="1339920" y="2267280"/>
            <a:chExt cx="360360" cy="307080"/>
          </a:xfrm>
        </p:grpSpPr>
        <p:sp>
          <p:nvSpPr>
            <p:cNvPr id="60" name=""/>
            <p:cNvSpPr/>
            <p:nvPr/>
          </p:nvSpPr>
          <p:spPr>
            <a:xfrm>
              <a:off x="1373400" y="2279520"/>
              <a:ext cx="293040" cy="27900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39920" y="22672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229360" y="2267280"/>
            <a:ext cx="360360" cy="307080"/>
            <a:chOff x="5229360" y="2267280"/>
            <a:chExt cx="360360" cy="307080"/>
          </a:xfrm>
        </p:grpSpPr>
        <p:sp>
          <p:nvSpPr>
            <p:cNvPr id="63" name=""/>
            <p:cNvSpPr/>
            <p:nvPr/>
          </p:nvSpPr>
          <p:spPr>
            <a:xfrm>
              <a:off x="5262840" y="2279520"/>
              <a:ext cx="293040" cy="27900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29360" y="22672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15920" y="3864600"/>
            <a:ext cx="360360" cy="307080"/>
            <a:chOff x="115920" y="3864600"/>
            <a:chExt cx="360360" cy="307080"/>
          </a:xfrm>
        </p:grpSpPr>
        <p:sp>
          <p:nvSpPr>
            <p:cNvPr id="66" name=""/>
            <p:cNvSpPr/>
            <p:nvPr/>
          </p:nvSpPr>
          <p:spPr>
            <a:xfrm>
              <a:off x="149400" y="387684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5920" y="38646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700280" y="4007520"/>
            <a:ext cx="360360" cy="307080"/>
            <a:chOff x="1700280" y="4007520"/>
            <a:chExt cx="360360" cy="307080"/>
          </a:xfrm>
        </p:grpSpPr>
        <p:sp>
          <p:nvSpPr>
            <p:cNvPr id="69" name=""/>
            <p:cNvSpPr/>
            <p:nvPr/>
          </p:nvSpPr>
          <p:spPr>
            <a:xfrm>
              <a:off x="1733760" y="40197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00280" y="40075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084640" y="4007520"/>
            <a:ext cx="360360" cy="307080"/>
            <a:chOff x="5084640" y="4007520"/>
            <a:chExt cx="360360" cy="307080"/>
          </a:xfrm>
        </p:grpSpPr>
        <p:sp>
          <p:nvSpPr>
            <p:cNvPr id="72" name=""/>
            <p:cNvSpPr/>
            <p:nvPr/>
          </p:nvSpPr>
          <p:spPr>
            <a:xfrm>
              <a:off x="5118120" y="40197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4640" y="40075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15920" y="5418720"/>
            <a:ext cx="360360" cy="307080"/>
            <a:chOff x="115920" y="5418720"/>
            <a:chExt cx="360360" cy="307080"/>
          </a:xfrm>
        </p:grpSpPr>
        <p:sp>
          <p:nvSpPr>
            <p:cNvPr id="75" name=""/>
            <p:cNvSpPr/>
            <p:nvPr/>
          </p:nvSpPr>
          <p:spPr>
            <a:xfrm>
              <a:off x="149400" y="54309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5920" y="5418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854440" y="5418720"/>
            <a:ext cx="360360" cy="307080"/>
            <a:chOff x="2854440" y="5418720"/>
            <a:chExt cx="360360" cy="307080"/>
          </a:xfrm>
        </p:grpSpPr>
        <p:sp>
          <p:nvSpPr>
            <p:cNvPr id="78" name=""/>
            <p:cNvSpPr/>
            <p:nvPr/>
          </p:nvSpPr>
          <p:spPr>
            <a:xfrm>
              <a:off x="2887920" y="54309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54440" y="5418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941720" y="5418720"/>
            <a:ext cx="360360" cy="307080"/>
            <a:chOff x="4941720" y="5418720"/>
            <a:chExt cx="360360" cy="307080"/>
          </a:xfrm>
        </p:grpSpPr>
        <p:sp>
          <p:nvSpPr>
            <p:cNvPr id="81" name=""/>
            <p:cNvSpPr/>
            <p:nvPr/>
          </p:nvSpPr>
          <p:spPr>
            <a:xfrm>
              <a:off x="4975200" y="54309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41720" y="5418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413000" y="7074360"/>
            <a:ext cx="431640" cy="307080"/>
            <a:chOff x="1413000" y="7074360"/>
            <a:chExt cx="431640" cy="307080"/>
          </a:xfrm>
        </p:grpSpPr>
        <p:sp>
          <p:nvSpPr>
            <p:cNvPr id="84" name=""/>
            <p:cNvSpPr/>
            <p:nvPr/>
          </p:nvSpPr>
          <p:spPr>
            <a:xfrm>
              <a:off x="1452960" y="7086600"/>
              <a:ext cx="351000" cy="27900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13000" y="7074360"/>
              <a:ext cx="43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0480" y="3141720"/>
            <a:ext cx="228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Monosacárido, aldosa, hexosa Gluc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3280" y="3059280"/>
            <a:ext cx="23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Monosacárido, cetosa, hexosa Fruct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80" y="46069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Monosacárido, aldosa, triosa Gliceraldehí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67840" y="4646520"/>
            <a:ext cx="90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isacár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acar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5440" y="6242040"/>
            <a:ext cx="225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Monosacárido, aldosa, hex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Galact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33760" y="811368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Polisacár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Dextr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41360" y="183528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81040" y="17892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Grupo alcohol o hidroxi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31760" y="2124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7680" y="2346480"/>
            <a:ext cx="21564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55520" y="25686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39680" y="403560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6160" y="27972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7080" y="303516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428472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08800" y="229068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46920" y="248436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46920" y="267480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3000" y="284328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48040" y="4237200"/>
            <a:ext cx="21564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84440" y="353232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9360" y="414036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52640" y="4572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7200" y="367992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16280" y="4572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21000" y="414036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65600" y="42498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70200" y="516096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93920" y="543564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0280" y="572436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614376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30640" y="582768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76640" y="7216920"/>
            <a:ext cx="21564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79720" y="689616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51120" y="699444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81360" y="710568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73422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8280" y="795672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97360" y="702000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13000" y="7812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19440" y="8028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32040" y="851076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41920" y="844056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05360" y="874872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5920" y="1979640"/>
            <a:ext cx="433440" cy="216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22760" y="1920960"/>
            <a:ext cx="17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Grupo carbonilo cet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03920" y="2124000"/>
            <a:ext cx="433440" cy="216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57720" y="1692360"/>
            <a:ext cx="433080" cy="21564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23120" y="1692360"/>
            <a:ext cx="189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Grupo carbonilo aldehí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7120" y="1795320"/>
            <a:ext cx="504720" cy="28764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5440" y="3668760"/>
            <a:ext cx="504720" cy="2872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09:22:27Z</dcterms:created>
  <dc:creator>Alberto</dc:creator>
  <dc:description/>
  <dc:language>en-US</dc:language>
  <cp:lastModifiedBy>Alberto</cp:lastModifiedBy>
  <dcterms:modified xsi:type="dcterms:W3CDTF">2010-01-23T09:00:57Z</dcterms:modified>
  <cp:revision>7</cp:revision>
  <dc:subject/>
  <dc:title>Diapositiva 1</dc:title>
</cp:coreProperties>
</file>