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350-1957-4F97-85F8-FE60B03A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FCC-CA1F-4C1D-884C-F573794D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A1F-9DC2-41ED-8F5B-5C3BD09D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D00-7905-4D0D-AACC-4E05D2CC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2F7-BF77-4C96-8BA0-3EE386CA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432-A995-46CC-9B9F-3ED1C303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73C-D721-4051-82A0-D7ADCBBF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DD8-4423-4775-B644-5784F16F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104-D83C-4C15-AD27-A7DC09CF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566-7759-47DF-93DB-A3428F49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870-DE53-48D5-ACEA-A2BB7EAF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C30-12A5-4FBD-8A98-7D8D353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A53A-5503-45BF-919F-AF8995C81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800" y="869400"/>
            <a:ext cx="649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- a) Di cuáles las siguientes moléculas son glúcidos.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, 3, 4, 5, 8 y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) Di a qué tipo de glúcidos se corresponden según las clasificaciones que hemos estudi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) Indica dónde están en cada glúcido los grupos funcionales que los caracteriz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) ¿Cómo se llama cada uno de esos glúcido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4680" y="3240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jercicios de repaso de Bioquí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Glú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27560" y="81000"/>
            <a:ext cx="122580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4040" y="3621240"/>
            <a:ext cx="949320" cy="117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28640" y="2195640"/>
            <a:ext cx="349272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9360" y="3649680"/>
            <a:ext cx="71748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7560" y="1835280"/>
            <a:ext cx="682920" cy="137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602320" y="1835280"/>
          <a:ext cx="851040" cy="130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2320" y="1835280"/>
                    <a:ext cx="85104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13000" y="5219640"/>
            <a:ext cx="1150920" cy="108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060640" y="3576600"/>
            <a:ext cx="280836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790640" y="6494400"/>
            <a:ext cx="2718000" cy="25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89000" y="5148360"/>
          <a:ext cx="2160360" cy="94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9000" y="5148360"/>
                    <a:ext cx="21603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373720" y="5076720"/>
            <a:ext cx="1008000" cy="1005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15920" y="2264400"/>
            <a:ext cx="360360" cy="307080"/>
            <a:chOff x="115920" y="2264400"/>
            <a:chExt cx="360360" cy="307080"/>
          </a:xfrm>
        </p:grpSpPr>
        <p:sp>
          <p:nvSpPr>
            <p:cNvPr id="57" name=""/>
            <p:cNvSpPr/>
            <p:nvPr/>
          </p:nvSpPr>
          <p:spPr>
            <a:xfrm>
              <a:off x="149400" y="22766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920" y="22644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339920" y="2267280"/>
            <a:ext cx="360360" cy="307080"/>
            <a:chOff x="1339920" y="2267280"/>
            <a:chExt cx="360360" cy="307080"/>
          </a:xfrm>
        </p:grpSpPr>
        <p:sp>
          <p:nvSpPr>
            <p:cNvPr id="60" name=""/>
            <p:cNvSpPr/>
            <p:nvPr/>
          </p:nvSpPr>
          <p:spPr>
            <a:xfrm>
              <a:off x="137340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3992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29360" y="2267280"/>
            <a:ext cx="360360" cy="307080"/>
            <a:chOff x="5229360" y="2267280"/>
            <a:chExt cx="360360" cy="307080"/>
          </a:xfrm>
        </p:grpSpPr>
        <p:sp>
          <p:nvSpPr>
            <p:cNvPr id="63" name=""/>
            <p:cNvSpPr/>
            <p:nvPr/>
          </p:nvSpPr>
          <p:spPr>
            <a:xfrm>
              <a:off x="526284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2936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5920" y="3864600"/>
            <a:ext cx="360360" cy="307080"/>
            <a:chOff x="115920" y="3864600"/>
            <a:chExt cx="360360" cy="307080"/>
          </a:xfrm>
        </p:grpSpPr>
        <p:sp>
          <p:nvSpPr>
            <p:cNvPr id="66" name=""/>
            <p:cNvSpPr/>
            <p:nvPr/>
          </p:nvSpPr>
          <p:spPr>
            <a:xfrm>
              <a:off x="149400" y="38768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920" y="3864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700280" y="4007520"/>
            <a:ext cx="360360" cy="307080"/>
            <a:chOff x="1700280" y="4007520"/>
            <a:chExt cx="360360" cy="307080"/>
          </a:xfrm>
        </p:grpSpPr>
        <p:sp>
          <p:nvSpPr>
            <p:cNvPr id="69" name=""/>
            <p:cNvSpPr/>
            <p:nvPr/>
          </p:nvSpPr>
          <p:spPr>
            <a:xfrm>
              <a:off x="173376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028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084640" y="4007520"/>
            <a:ext cx="360360" cy="307080"/>
            <a:chOff x="5084640" y="4007520"/>
            <a:chExt cx="360360" cy="307080"/>
          </a:xfrm>
        </p:grpSpPr>
        <p:sp>
          <p:nvSpPr>
            <p:cNvPr id="72" name=""/>
            <p:cNvSpPr/>
            <p:nvPr/>
          </p:nvSpPr>
          <p:spPr>
            <a:xfrm>
              <a:off x="511812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464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5920" y="5418720"/>
            <a:ext cx="360360" cy="307080"/>
            <a:chOff x="115920" y="5418720"/>
            <a:chExt cx="360360" cy="307080"/>
          </a:xfrm>
        </p:grpSpPr>
        <p:sp>
          <p:nvSpPr>
            <p:cNvPr id="75" name=""/>
            <p:cNvSpPr/>
            <p:nvPr/>
          </p:nvSpPr>
          <p:spPr>
            <a:xfrm>
              <a:off x="1494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9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854440" y="5418720"/>
            <a:ext cx="360360" cy="307080"/>
            <a:chOff x="2854440" y="5418720"/>
            <a:chExt cx="360360" cy="307080"/>
          </a:xfrm>
        </p:grpSpPr>
        <p:sp>
          <p:nvSpPr>
            <p:cNvPr id="78" name=""/>
            <p:cNvSpPr/>
            <p:nvPr/>
          </p:nvSpPr>
          <p:spPr>
            <a:xfrm>
              <a:off x="288792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5444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941720" y="5418720"/>
            <a:ext cx="360360" cy="307080"/>
            <a:chOff x="4941720" y="5418720"/>
            <a:chExt cx="360360" cy="307080"/>
          </a:xfrm>
        </p:grpSpPr>
        <p:sp>
          <p:nvSpPr>
            <p:cNvPr id="81" name=""/>
            <p:cNvSpPr/>
            <p:nvPr/>
          </p:nvSpPr>
          <p:spPr>
            <a:xfrm>
              <a:off x="49752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17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413000" y="7074360"/>
            <a:ext cx="431640" cy="307080"/>
            <a:chOff x="1413000" y="7074360"/>
            <a:chExt cx="431640" cy="307080"/>
          </a:xfrm>
        </p:grpSpPr>
        <p:sp>
          <p:nvSpPr>
            <p:cNvPr id="84" name=""/>
            <p:cNvSpPr/>
            <p:nvPr/>
          </p:nvSpPr>
          <p:spPr>
            <a:xfrm>
              <a:off x="1452960" y="7086600"/>
              <a:ext cx="35100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3000" y="70743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" y="3141720"/>
            <a:ext cx="22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 Gluc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3059280"/>
            <a:ext cx="23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cetosa, hexosa Fru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46069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triosa Glicer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67840" y="4646520"/>
            <a:ext cx="9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aca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6242040"/>
            <a:ext cx="225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33760" y="81136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Pol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Dext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41360" y="183528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81040" y="17892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alcohol o hidrox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31760" y="2124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7680" y="234648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5520" y="25686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39680" y="403560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6160" y="2797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7080" y="30351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428472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08800" y="22906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46920" y="24843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46920" y="26748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3000" y="28432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48040" y="423720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84440" y="35323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936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5264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7200" y="36799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1628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2100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0" y="42498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0200" y="51609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93920" y="543564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57243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6143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30640" y="5827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6640" y="721692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79720" y="68961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1120" y="699444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81360" y="7105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7342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8280" y="79567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97360" y="70200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13000" y="781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9440" y="8028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2040" y="8510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41920" y="84405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05360" y="874872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5920" y="197964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22760" y="1920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carbonilo cet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3920" y="212400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7720" y="1692360"/>
            <a:ext cx="433080" cy="215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23120" y="1692360"/>
            <a:ext cx="189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rupo carbonilo 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7120" y="1795320"/>
            <a:ext cx="504720" cy="287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440" y="3668760"/>
            <a:ext cx="504720" cy="287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22:27Z</dcterms:created>
  <dc:creator>Alberto</dc:creator>
  <dc:description/>
  <dc:language>en-US</dc:language>
  <cp:lastModifiedBy>Alberto</cp:lastModifiedBy>
  <dcterms:modified xsi:type="dcterms:W3CDTF">2010-01-23T09:00:57Z</dcterms:modified>
  <cp:revision>7</cp:revision>
  <dc:subject/>
  <dc:title>Diapositiva 1</dc:title>
</cp:coreProperties>
</file>