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9A9-8BF3-44E7-AB80-4BC4170E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3DA-ECAE-4B7E-AD71-1D6438A0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ABD-02F1-4A9C-A92D-E299F6E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781-4A0E-45E4-8BF1-57C26F4F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DB1F-118A-43C9-AA2A-B3E7CADF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7FD3-4B45-4E86-883C-832780A5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B18-2579-4014-8F7C-5FDB70DD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C94B-AD37-4AAB-955E-B1F06B6E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5B31-D3AA-47D9-BE53-2607B55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1A4-2392-4704-A8FC-DA09B19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F2A3-6AC6-4AFA-BE3A-C20F3D1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72F-93CA-46C2-B091-34A8DD5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69B1-6B68-45B9-A92F-0E73F6BC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B143-7C77-401E-814A-35AAF4A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04E-4F3A-49F8-A304-1149F64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6AC0-D7EC-4B6E-AEEF-15487D46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8350-25DE-4DBD-92C6-41DC66C5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CAEB9-5C1E-4DB1-819F-60100D32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B6531-4BC3-4E4D-8344-7B07B60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B6552-3B42-4765-8411-4B286EB6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13774-13B6-41BA-BB0C-D786694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0CFCE-0714-4A1A-B3CC-DEB35D0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BE3-85F2-495A-AA96-0426447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761C2-0717-47E1-9EB6-5D636ED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E8D43-9097-4AE6-8B32-4FC6E7E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9B8F1-D02C-4CDC-B07E-033F39C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2BF0C-47E7-4FF8-AD71-7A07D6C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02729-B640-402D-ADF4-8CC6788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93D28-934F-49E9-9246-6971C3F3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8C4D-5D81-4BF9-A292-995ACC89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3FA-C29A-4641-9891-E0870948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238-3B65-4A56-A7C6-DEE54DD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4AB-1C46-4AFA-8B48-1303EE2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9F1-D7C9-4D67-9F72-6AE0D1A1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AFF-FA83-4717-8386-765B55D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BD4-6C91-413C-BB38-3A15EE6F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8196-C570-43D6-9FB6-9DA820F957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92B0-5D88-4036-8754-559DA92EF7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6FD-736A-45D0-8A0D-834BF66684A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AC11-F4F7-4A18-AE07-5BB12157532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95480" y="146844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61616"/>
                </a:solidFill>
                <a:latin typeface="Tahoma"/>
              </a:rPr>
              <a:t>Ejercicios  Lípid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27320" y="5661000"/>
            <a:ext cx="55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2000" spc="-1" strike="noStrike">
                <a:solidFill>
                  <a:srgbClr val="008600"/>
                </a:solidFill>
                <a:latin typeface="Arial"/>
              </a:rPr>
              <a:t>José Luis Sánchez Guill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3FB-4B38-4833-BED5-9776249083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9C1-EACF-4907-B7B3-040D211EEE9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Diapositiva1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iapositiva1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3CE6-92EF-4081-84D6-4ED059FB1DA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" descr="Diapositiva2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iapositiva2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6A9-C3EF-40F7-838E-8472A921688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5EB8-6823-4854-A56B-5347D5F96E0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9893-A30E-46A3-8CA2-9A7C04AF514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Diapositiva3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iapositiva3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E6F-8D46-4453-A41A-F523379FBD4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2BC5-3666-4987-9509-F1445EB526C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Diapositiva4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565-BB38-42F7-A91C-714816E34F5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2BD-D197-4AE6-9199-2A5C68213B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iapositiva4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73B0-5A02-428F-B0A7-739FE607346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7EF7-D546-4698-82A1-4418733BC8D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3" descr="Diapositiva4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iapositiva4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EFD1-E488-4EDC-A9E1-03FB8A85F6E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Diapositiva5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apositiva5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1D12-B291-4828-B64C-45B7D6F1370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02D-ACA7-4F98-8C34-A21A1A0B2F8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Diapositiva3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iapositiva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1728-5F39-4314-8658-F2DAEF14A2C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3" descr="Diapositiva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iapositiva4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BAA1-DDAC-4BE3-9AE4-E746B452FD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" descr="Diapositiva5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iapositiva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A05-5CB6-4CE0-8607-F39ABB7D895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" descr="Diapositiva7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apositiva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55E4-0791-4F87-936B-4E45F491DA1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Diapositiva9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iapositiva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1231-D36D-46B2-AC56-94D4783B9EE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23FE-E876-4FF2-ABF5-B08685749D7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Diapositiva0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iapositiva0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2563-E703-4754-96DB-BB1C4739D01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Diapositiva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iapositiva1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6146-BD62-431B-9D15-622D0FD14C7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Diapositiva1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iapositiva1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CA54-489C-4E85-A389-85F50CE0E2E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E2E-EBFA-4806-92FD-4FC5966F82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iapositiva2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iapositiva2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281C-DF36-4394-81A0-949C99CC2DE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57:49Z</dcterms:created>
  <dc:creator>Alberto</dc:creator>
  <dc:description/>
  <dc:language>en-US</dc:language>
  <cp:lastModifiedBy>Alberto</cp:lastModifiedBy>
  <dcterms:modified xsi:type="dcterms:W3CDTF">2012-01-12T15:30:34Z</dcterms:modified>
  <cp:revision>15</cp:revision>
  <dc:subject/>
  <dc:title>Diapositiva 1</dc:title>
</cp:coreProperties>
</file>