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C44-3EB0-45C7-B38B-AC863066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B1D5-B3CC-4C43-A71A-69C2BB1F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B609-479E-4CEE-BDB2-56D87B4F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D849-F45A-40DE-9482-316B7494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C270-51D9-452F-8360-AC13C603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B475-0BB3-498C-A511-81ABE409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6DEB-8B2D-4937-9BDE-D3EA213D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E819-326E-4F70-99C9-BA7C6A44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AE9C-3C02-44DA-B1FE-CD63977F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1942-1217-43F3-8468-00E67A99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44FB-5EA1-48ED-A918-E56D74E5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EE57-2843-4D11-BE46-D7EEA268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9FCC-24AF-406F-ADDF-E70F0E13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ECA6-DFE2-4162-A1C5-656B3587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E681-486B-4C97-BE50-9BB983AC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A19D-1E22-48C7-AACE-1D4FBA9E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0762-EF03-4D83-9123-2D6648B5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57D5E-DED7-4A47-9A79-CC8E0249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31A98-5FC2-4C28-81CF-7F36CFDC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05223-89FE-4FCA-89EB-34973A10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7B2E1-E1A5-4771-983E-FEB1CF1F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06F07-CD34-4A2D-B895-57BFE885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C10D-6197-4AD8-B6A8-7D752E15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B7C15-92AE-4031-AFD1-E79550E2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CC5009-9737-440A-B29D-C2DA2780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2F38CD-4C1B-4304-B1C1-9646FC27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4C7D0-4D78-4468-AD78-4A533468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F8D46-19A1-40C4-8088-E876EA7B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D0007-DD19-4482-BACB-DFA53077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A2CF30-3FC0-4065-A168-D7E332CC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A26-8F64-4899-91F6-261BA41A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E8A-761C-4715-BD70-CD9F8492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9F67-E9BD-4D82-A5DB-D4182474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F7A-4AC0-4579-9E62-74D48D00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ECEB-220F-4EED-99C8-2723DCA1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CDC3-23E2-425E-BCD4-FDC82D63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9167-5F3E-4DAE-AF1B-770D712DF2A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D6A1-FCED-43FB-8DE0-00D9C2781E9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3070-5153-4B4E-A321-33A6871AFA9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8CA5-38CD-4C0E-AE39-51896EE9388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2895480" y="1468440"/>
            <a:ext cx="520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61616"/>
                </a:solidFill>
                <a:latin typeface="Tahoma"/>
              </a:rPr>
              <a:t>Ejercicios  Lípido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427320" y="5661000"/>
            <a:ext cx="556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ahoma"/>
              </a:rPr>
              <a:t>Autor: </a:t>
            </a:r>
            <a:r>
              <a:rPr b="0" lang="es-ES" sz="2000" spc="-1" strike="noStrike">
                <a:solidFill>
                  <a:srgbClr val="008600"/>
                </a:solidFill>
                <a:latin typeface="Arial"/>
              </a:rPr>
              <a:t>José Luis Sánchez Guillé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ahoma"/>
              </a:rPr>
              <a:t>adaptado para www.puedosermedico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501A-EA93-4FB6-923C-AD5EDBD68E5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3" descr="Diapositiva1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Diapositiva1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9EF2-8BCC-4BDA-92DB-E136BD270FB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Diapositiva1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Diapositiva1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073C-8DC6-430B-90F8-AEEAC248018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3" descr="Diapositiva2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Diapositiva2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0A04-E386-4DD7-ACEC-A3148803CBC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3" descr="Diapositiva3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Diapositiva3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173A-B774-4925-9404-820C4474550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3" descr="Diapositiva3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Diapositiva3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2A4D-7C6B-403B-BC5E-936C065347E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3" descr="Diapositiva3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iapositiva3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FDD7-7F5F-43D9-808B-F92CB268654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5" descr="Diapositiva3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Diapositiva3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2724-DEB3-4954-8420-4A03031D512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Diapositiva4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Diapositiva4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AD65-C6B1-4278-B224-1C04E716803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3" descr="Diapositiva4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iapositiva4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6E50-B694-4298-97F5-62ED21CE274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3" descr="Diapositiva4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Diapositiva4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4C86-9539-4703-A379-C54C260A982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Diapositiva0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Diapositiva0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9442-D5A5-4FDF-B550-F8495B1432C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3" descr="Diapositiva4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iapositiva4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E6A3-9812-4DF6-BD47-5A93C8BFDA3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3" descr="Diapositiva5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Diapositiva5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168B-0127-4AF9-B28B-025CE446AF1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3" descr="Diapositiva1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Diapositiva1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1843-741F-47B3-8E90-1FF2BE3617A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3" descr="Diapositiva3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Diapositiva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2D41-B379-41E1-B593-CCEFD82FD70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3" descr="Diapositiva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Diapositiva4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02FE-DBAD-4046-A093-A358F301315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3" descr="Diapositiva5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Diapositiva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5403-9512-4739-860F-72B2311680C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3" descr="Diapositiva7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Diapositiva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A6A7-50FE-4E6E-984A-EB190FE5A1F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3" descr="Diapositiva9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Diapositiva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5D30-C69E-41F9-913F-7CC305FD56E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Diapositiva0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iapositiva0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B56D-1E92-4787-83FF-9D90B6F4ED0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3" descr="Diapositiva0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Diapositiva0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34F6-36C5-4A7E-B8F8-A23EA3AFC49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3" descr="Diapositiva1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Diapositiva1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C8DF-7993-428D-8734-01C5ABC5443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3" descr="Diapositiva1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Diapositiva1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655E-8D94-42D7-950D-7B9459557DE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3" descr="Diapositiva2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Diapositiva2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E1D7-F73D-4FFF-B245-E0DE96CDB9A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3" descr="Diapositiva2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Diapositiva2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FC89-CD98-4E71-AF70-BFD664EA631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3" descr="Diapositiva3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iapositiva3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4:57:49Z</dcterms:created>
  <dc:creator>Alberto</dc:creator>
  <dc:description/>
  <dc:language>en-US</dc:language>
  <cp:lastModifiedBy>Alberto</cp:lastModifiedBy>
  <dcterms:modified xsi:type="dcterms:W3CDTF">2012-01-12T15:30:34Z</dcterms:modified>
  <cp:revision>15</cp:revision>
  <dc:subject/>
  <dc:title>Diapositiva 1</dc:title>
</cp:coreProperties>
</file>