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FB6-E2C1-4415-AECD-8CEB461A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970-84B9-4385-9BCD-8A04ACB4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216-40B3-47D2-853D-FE5F4030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680-2660-4E6F-80A8-DB648526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61F-D89E-428C-8245-39E8277F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8AD-DE75-47A1-AD98-64167083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2B6-D5AD-456F-8B3A-943884A1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00C-B7EB-48AC-8CE3-225D4D32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BA3-7145-46B2-85D3-1FB19207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716-BD52-4CC1-AAFE-A9C5B85A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042-4358-45CD-9332-3F420F64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01C-E53D-4C0D-B88D-C506DCFD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C06E-F851-495E-BDB0-2166C9083D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8DC-3973-4BDA-BE3F-CFFF6E71F0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79800" y="1700280"/>
            <a:ext cx="376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5 Rectángulo"/>
          <p:cNvSpPr/>
          <p:nvPr/>
        </p:nvSpPr>
        <p:spPr>
          <a:xfrm>
            <a:off x="324000" y="58071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1800" spc="-1" strike="noStrike">
                <a:solidFill>
                  <a:srgbClr val="008a3e"/>
                </a:solidFill>
                <a:latin typeface="Arial"/>
              </a:rPr>
              <a:t>José Luis Sánchez Guil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E335-B920-4750-A13C-24AA277B5F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A6F-9E59-415C-955B-923DB523FD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EB76-13AC-4F27-986C-37A6BE8B8D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3F81-3319-4E07-AE73-06344E5D9C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9986-0672-438B-97AC-3E70069682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apositiva41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1348-62ED-4733-BB1E-9094A2CDA3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iapositiva4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B706-398B-4259-9D98-2093BDA88D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58CA-A85C-4C2F-B45C-7DDA75E914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iapositiva4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iapositiva4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0757-2CD5-4703-BBA7-54A5A4292B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iapositiva5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iapositiva5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501A-9DCE-4F26-9D90-51D4BB94A8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iapositiva5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iapositiva5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003D-10F6-4531-947C-4F234797B6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7EC0-FCD4-4AD1-BE47-C2589D71F5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Diapositiva5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iapositiva5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DE94-120F-46B3-9FB7-0F90AD751D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iapositiva5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iapositiva5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5652-7923-45D7-BF0A-46E34F5109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Diapositiva6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iapositiva6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A0FE-1B47-4EB3-BF74-CE53ECD1FA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Diapositiva6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apositiva6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343-66FC-4E59-8D78-EE703470E6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Diapositiva6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iapositiva6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AE37-A003-4778-AE1A-BF5FEB3865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Diapositiva7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iapositiva7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4003-1E41-45B3-A29D-E1BDF88BF9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iapositiva7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iapositiva7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4558-5D19-4866-A9B7-1574B6CDCA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Diapositiva7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iapositiva75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673-C18E-46A5-B295-B62B7B4B65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4CA2-C7C9-4783-BCAB-E7C95D1FC6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iapositiva0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iapositiva0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5C97-65E9-4024-B4C3-130BE27AF0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492B-AA44-4362-8713-98B5A5CF26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907920"/>
            <a:ext cx="3672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no polares e hidrófobo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D5B-809E-4FEC-96B6-79D1DD1A56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7280" y="932040"/>
            <a:ext cx="3672000" cy="11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polares sin carg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86D2-5A97-4CFD-93DF-BBE7093FC1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iapositiva2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iapositiva2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25AA-F453-4395-8F05-7927B311D7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iapositiva2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iapositiva2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5:11:18Z</dcterms:created>
  <dc:creator>Alberto</dc:creator>
  <dc:description/>
  <dc:language>en-US</dc:language>
  <cp:lastModifiedBy>Alberto</cp:lastModifiedBy>
  <dcterms:modified xsi:type="dcterms:W3CDTF">2012-01-12T15:39:40Z</dcterms:modified>
  <cp:revision>9</cp:revision>
  <dc:subject/>
  <dc:title>Diapositiva 1</dc:title>
</cp:coreProperties>
</file>