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FBD-E533-48D0-9CBB-42BA83D2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0E5-C10C-4607-91DE-41C05BA8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63E-3BC1-41FB-8ADE-15F60571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937-34BE-429C-B9E3-90D94AF4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DDD-9BF7-494A-BFF9-BBE4397E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498-4A23-4D94-B662-BEF9E3C6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1F6-7B71-4169-B4E1-4610330E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79F-9ED9-4D7A-8F82-D62B4789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4E0-86CA-40AF-969D-008E97E6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CA6-A21F-4CB3-BB07-699032F5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7B0-34E4-4BB8-BDAF-E4A25560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A27-A8F1-4EA2-A40F-CE0F0FC2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C56E-9ECE-4458-89DA-22AAF44CFF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20CF-98E8-4D1B-BB67-4322588B0C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79800" y="1700280"/>
            <a:ext cx="376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Proteín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44" name="5 Rectángulo"/>
          <p:cNvSpPr/>
          <p:nvPr/>
        </p:nvSpPr>
        <p:spPr>
          <a:xfrm>
            <a:off x="324000" y="580716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Autor: </a:t>
            </a:r>
            <a:r>
              <a:rPr b="0" lang="es-ES" sz="1800" spc="-1" strike="noStrike">
                <a:solidFill>
                  <a:srgbClr val="008a3e"/>
                </a:solidFill>
                <a:latin typeface="Arial"/>
              </a:rPr>
              <a:t>José Luis Sánchez Guill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adaptado para www.puedosermedi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4AFA-DEFF-4BE4-ADE7-0BF733268D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iapositiva3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iapositiva3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AFEE-8B14-4B1D-AFAB-829232E8A5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Diapositiva3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Diapositiva3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499B-4CE0-4DBA-ACFF-402767B361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iapositiva3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iapositiva3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23D1-D45C-45F7-A3F6-0B36595B4AA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Diapositiva3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iapositiva3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059F-5CC8-4924-828E-BFB5E58B98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Diapositiva4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iapositiva41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565A-87F3-4742-92DA-F318D617BB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Diapositiva4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Diapositiva43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DAC9-19B8-452C-B762-4BE486BB67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Diapositiva4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iapositiva4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8E1B-DDAA-4BB4-B496-73E202CD64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Diapositiva4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iapositiva4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5B07-267B-4093-AE64-BBDFE3C87B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Diapositiva5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iapositiva5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95B6-908B-400C-A080-F1C1D46243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Diapositiva5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iapositiva5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4DAC-BA33-4219-BC40-82F9273A3A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iapositiva0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Diapositiva0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70D2-335C-4E9C-A6BE-FD990F1E97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Diapositiva5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iapositiva5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739A-8272-451D-B1EB-29D1609EC0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Diapositiva5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Diapositiva5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561A-6E3B-4C18-876A-6A738D14D4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Diapositiva6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Diapositiva6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07A9-AA3C-47DF-B574-EC8D840553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Diapositiva6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Diapositiva6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F089-08D4-4DD9-8494-B64B37006E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Diapositiva6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iapositiva6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627B-0824-4B1F-910A-691AD02502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Diapositiva7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Diapositiva7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39EB-4F88-4AF4-A990-1E84BC8E41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Diapositiva7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iapositiva73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0954-4BBD-496D-A861-422566DB19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Diapositiva7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iapositiva75"/>
          <p:cNvPicPr/>
          <p:nvPr/>
        </p:nvPicPr>
        <p:blipFill>
          <a:blip r:embed="rId2"/>
          <a:stretch/>
        </p:blipFill>
        <p:spPr>
          <a:xfrm>
            <a:off x="118728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65BB-F0BC-4806-A633-9AFA801B54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Diapositiva0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apositiva0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6D86-710B-4A04-A9C7-5853EFC961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Diapositiva06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Diapositiva07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63EF-C835-43A8-B298-3BD2E18B8A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iapositiva1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iapositiva1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D663-6197-46F7-A6DE-1B40470ECD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Diapositiva18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Diapositiva19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907920"/>
            <a:ext cx="36720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uál de estos aminoácidos pertenecerá al grupo de aminoácidos neutros no polares e hidrófobo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00E7-A71F-46CC-B019-09506CFAB5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Diapositiva20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iapositiva21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87280" y="932040"/>
            <a:ext cx="3672000" cy="11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¿Cuál de estos aminoácidos pertenecerá al grupo de aminoácidos neutros polares sin carg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C2A7-77D7-4678-AAC5-B6F7D4C6F6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Diapositiva22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iapositiva23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A710-17B2-40A1-A646-06D95765A5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Diapositiva24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Diapositiva25"/>
          <p:cNvPicPr/>
          <p:nvPr/>
        </p:nvPicPr>
        <p:blipFill>
          <a:blip r:embed="rId2"/>
          <a:stretch/>
        </p:blipFill>
        <p:spPr>
          <a:xfrm>
            <a:off x="1116000" y="83664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6926400" y="0"/>
            <a:ext cx="22176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5:11:18Z</dcterms:created>
  <dc:creator>Alberto</dc:creator>
  <dc:description/>
  <dc:language>en-US</dc:language>
  <cp:lastModifiedBy>Alberto</cp:lastModifiedBy>
  <dcterms:modified xsi:type="dcterms:W3CDTF">2012-01-12T15:39:40Z</dcterms:modified>
  <cp:revision>9</cp:revision>
  <dc:subject/>
  <dc:title>Diapositiva 1</dc:title>
</cp:coreProperties>
</file>