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B00-6359-42F6-BFC6-D6C6CF04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9EC-6F7F-4BAA-A2B8-C2D28288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53C-DC3E-4ED8-B416-D2BF8F10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544-C3D3-4F52-9474-C4566B23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3B6D-1842-4574-AC9E-08DAE87F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D9BD-B013-4D44-8B0F-07D1C707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08C-452E-451C-9ECE-A0C98BBE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1622-7BAD-43A8-A5CB-1F43B7E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8EAA-153A-4CE9-B856-DEE3E04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E767-0728-44D0-9840-5D4AE29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F4C3-99BA-4361-A8C6-9385732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B45-6517-4A65-AA42-C402743B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CE6-B915-429D-B0BF-B3A51FD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5E27-CEC8-4B28-B5EB-06DEE79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CD89-6DD8-4C4E-AC78-65C1768C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F856-AE6C-44AB-AD40-CA63DBB3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C25-3D97-42E3-9958-08440BE6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AEE12-F903-44B4-BB4D-B2147C71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D337D-15B4-4D96-BF3A-D77D9C80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B169A-4208-4E62-A3B1-008CDB3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FF5C1-BFF9-403B-A449-DA4D341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F9B54-A193-4C20-BC7B-7BAD3B77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493-46ED-437B-B69E-0DF6D29B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C418E-FC96-4163-A909-8C09437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76533-6A50-4DE4-9F45-BF36169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FA09B-1D1C-4ED5-AE6D-A4E6BB89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BBF28-E9AE-4BE2-B2E2-26DB74B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4AE32-7470-4A25-901E-2CA350CF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CD286-4CAC-4060-9CEC-CDE90FF1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422CD-468D-4243-9B2A-F4ABE056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CF4-EED8-4AD5-9BBA-073E8FC8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365-2CE7-4961-AA00-EC8ECF6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7CE-19E5-4254-9F69-77848A0E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2F3-6553-4B66-959E-0A3F3EF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6EA-CDE0-466D-81FF-5CE5FAF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C56-BC7E-45C5-BA19-50FFA72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6D00-3FC1-4474-9D15-B4BC365829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0522-1DAB-4F61-BC1A-C218DA7F92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3B92-A924-458C-BE94-A68F3D32A15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9348-526C-4475-9DC4-C5ADC3084FB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895480" y="146844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61616"/>
                </a:solidFill>
                <a:latin typeface="Tahoma"/>
              </a:rPr>
              <a:t>Ejercicios  Lípid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27320" y="5661000"/>
            <a:ext cx="55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2000" spc="-1" strike="noStrike">
                <a:solidFill>
                  <a:srgbClr val="008600"/>
                </a:solidFill>
                <a:latin typeface="Arial"/>
              </a:rPr>
              <a:t>José Luis Sánchez Guill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1C5-3A63-492E-9C95-643F35645B6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F3F-47E4-49AF-AD06-8B7C882DD3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Diapositiva1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iapositiva1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F5A8-B763-43B7-8D3E-689461FD36F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" descr="Diapositiva2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iapositiva2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FA88-64C2-48FB-9A1F-E232503C4F9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3BA1-D2F3-4D35-AF91-D299EAE10FF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41F0-0E20-49D1-8DEF-6E51341A3FA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Diapositiva3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iapositiva3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6203-96BA-4ADA-9570-DD4DC70B7A1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0465-7783-4A81-96FF-9A519F365F4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Diapositiva4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E05F-961A-4E67-A816-C7884A47504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647C-6ED9-46AF-8609-10A154FB837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Diapositiva4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6228-0A0C-4A85-B4F8-3F914467162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FAE8-286F-4ADE-997E-CEAEE590FF2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3" descr="Diapositiva4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iapositiva4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41FF-78F1-48C6-AF7A-7824FE88D0E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" descr="Diapositiva5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apositiva5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2470-43C6-47B6-A8EE-4F7BD5C844F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B6C-B248-4146-A0DB-8DA40E77F7C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Diapositiva3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iapositiva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F84-7FD7-4C9E-AB10-09D8A441494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3" descr="Diapositiva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iapositiva4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A31E-8097-4F75-B38D-0FA288B504F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3" descr="Diapositiva5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iapositiva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D652-B769-4658-8DE2-D7A6B70C357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" descr="Diapositiva7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iapositiva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A289-43C4-4331-904E-B388E45D88B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Diapositiva9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iapositiva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28ED-5703-4EC3-B4AD-4256BD9AB27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C36D-C9D7-4F6E-A792-A62879025EB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Diapositiva0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iapositiva0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9401-A0EF-4DE2-B118-D512C91C45C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Diapositiva1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iapositiva1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A23F-7B8B-4BD0-BDFF-DF8036967ED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Diapositiva1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iapositiva1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C2D8-5A0F-400C-926F-820684D1833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BA93-D9F3-4DC0-9AA4-4417CD2F117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Diapositiva2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iapositiva2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298-A6AE-4F9E-B31C-C60152FA0DE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57:49Z</dcterms:created>
  <dc:creator>Alberto</dc:creator>
  <dc:description/>
  <dc:language>en-US</dc:language>
  <cp:lastModifiedBy>Alberto</cp:lastModifiedBy>
  <dcterms:modified xsi:type="dcterms:W3CDTF">2012-01-12T15:30:34Z</dcterms:modified>
  <cp:revision>15</cp:revision>
  <dc:subject/>
  <dc:title>Diapositiva 1</dc:title>
</cp:coreProperties>
</file>