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B85-67D3-4D26-A86E-07394729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D57-75F4-42D3-A4D2-007A949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67C-41B8-43F5-8D8E-C20D39DE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B11-778A-4887-B11C-CC2BF8F2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26FF-C65D-4E02-8573-4E3A7D7C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150F-3985-4325-8258-21927A91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7F0-4F35-4385-AC9B-501763A4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6A09-5821-44D5-89E0-EF46998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552B-1EBA-47BA-B5F2-1B25AA5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9348-F1E1-4DD4-A219-484F7AEC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456-F955-4629-AE97-6411F0C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890-B691-4903-AB88-8EC45ABF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899E-9B76-4C4F-B3BA-389EA223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6A3A-607E-4DE8-A2D6-29A242A7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89A8-2391-42B7-8CCC-BC49E1B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3A1-0CE7-406A-85E7-3E0629F2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6E8E-B846-43C6-BE91-0CF3D94A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4C1D5-42D1-48B4-BDD5-31445703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D4793-6F07-4F85-9FDC-3EBC474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46375-503D-47CB-A54E-2D02BEDD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1FDF5-7ED2-4476-A8F7-594DD99B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4028F-8382-47DF-A2CA-CC61332E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251-D130-4E94-8101-D9D2BBD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636F6-F166-4427-8D5F-1AC407EE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7CF65-5D11-40CC-8B4B-6833A2E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BC6D1-3D62-4172-A9B1-EEAC452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C4E56-6B5D-4117-B09E-4FAC7758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65600-D764-4920-A79B-9FDA3E78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1AE5F-355D-49CB-ABF9-5D6E18B0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C7F8D-5796-45E1-9A51-817926AE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F24-E24B-4408-B9AD-BA4DD96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665-2F73-4C8C-8FE3-3EE69B8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332-A1BB-4F99-AB19-D8214667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890-9439-4607-94D4-07AF14AF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98F-FDBF-41BC-B554-0727F4C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BCA-A528-4987-8F70-D1ACE1E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23EC-566B-4F95-8830-233B5B9ED0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3C70-5075-4B9A-B843-323BC316B6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60BB-8626-43A8-8AAF-1B559C54057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F2C-245C-4E57-9C35-29BB2B6F727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95480" y="146844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61616"/>
                </a:solidFill>
                <a:latin typeface="Tahoma"/>
              </a:rPr>
              <a:t>Ejercicios  Lípid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27320" y="5661000"/>
            <a:ext cx="55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2000" spc="-1" strike="noStrike">
                <a:solidFill>
                  <a:srgbClr val="008600"/>
                </a:solidFill>
                <a:latin typeface="Arial"/>
              </a:rPr>
              <a:t>José Luis Sánchez Guill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FC70-A9F5-49BC-80CC-DE81C3FB1B1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146-0F5C-4688-AF2E-67787F7A018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Diapositiva1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iapositiva1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4B40-7476-480E-8059-F9D032506C1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" descr="Diapositiva2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iapositiva2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3874-6BC7-46EB-9947-6FB695A1100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A8F2-C3D7-4BFE-91CC-7B630F4D81C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67F4-E806-4924-9026-D7ADDB6C69B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Diapositiva3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iapositiva3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5379-5861-4749-B218-E475FB3CDB0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DFA0-C985-42B6-B097-5B80981C218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Diapositiva4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809-E6E2-4E73-8A8C-B52BDC8845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441B-039C-4BD7-B5E3-F33E98DD441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iapositiva4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E30-D5DE-4368-9D4F-3177EFD6607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8760-2D6C-480A-8113-30A381C5E8B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3" descr="Diapositiva4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iapositiva4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04A2-5102-48D2-B3AE-A8B2A57426E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Diapositiva5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apositiva5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88FD-0FCE-43F4-AAB1-EC09CAAE75E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C92B-8E02-4D1C-8A52-017ED4DED8E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Diapositiva3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iapositiva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D6A-F0D5-496D-9C50-05FBBB0685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3" descr="Diapositiva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iapositiva4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DA8D-8154-468F-B108-29425055E24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" descr="Diapositiva5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iapositiva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ECF7-F159-406A-99F8-4984F04D0AD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" descr="Diapositiva7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apositiva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B159-1432-4B33-921D-EBF8A8B34D3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Diapositiva9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iapositiva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9715-9322-44A8-A41C-9DAD0C11FDB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71F-3301-4495-8524-B747413FD03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Diapositiva0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iapositiva0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C6B-7146-4175-93D5-A0E7D561FEC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Diapositiva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iapositiva1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C15-F4DC-471F-94D9-C484673EE5E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Diapositiva1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iapositiva1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1B95-F128-4EB0-A742-D0FDBABBB3D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5DE9-2709-440C-BD61-74E71311E07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iapositiva2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iapositiva2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625-DD7A-4CE3-ACF8-8B5DB8050BA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57:49Z</dcterms:created>
  <dc:creator>Alberto</dc:creator>
  <dc:description/>
  <dc:language>en-US</dc:language>
  <cp:lastModifiedBy>Alberto</cp:lastModifiedBy>
  <dcterms:modified xsi:type="dcterms:W3CDTF">2012-01-12T15:30:34Z</dcterms:modified>
  <cp:revision>15</cp:revision>
  <dc:subject/>
  <dc:title>Diapositiva 1</dc:title>
</cp:coreProperties>
</file>