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0CC-8BD6-4D9C-A9A2-0150C413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A6F-E2B7-47CE-AE26-595DA02A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D18-666E-40F2-A777-862EAFC8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220-E55A-46B4-8981-57961788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772D-CE73-49DD-B92A-A7A9AAB9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860-68AC-4A6D-997B-3D4DF403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196E-2324-48E7-9216-A586EA3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297-57A0-4835-A8C1-7F6D76A5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952D-9DDC-4C14-A807-6DAF25E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ED6C-6FE8-4436-878A-C9E3E037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8F66-0715-41CB-8750-62CAF8B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34D-FA35-440B-A233-502231E3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DA9C-6C20-49AC-B847-9D14DC5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FA9-F1E9-4EA5-A39A-27DAFE6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637-1039-46C0-AEDC-4C67CAE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F533-9918-46D8-AE1B-C3D3D221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CDA-39DD-4973-9638-714F1BEE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5BB8E-5050-4CE7-BF7F-1F899126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B1116-47F9-4B77-8F17-5E43ECD2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25C33-4634-4721-8C86-7A919C9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73DB0-F0E7-4EC7-A095-2E5C5806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C6674-D3A3-4766-A200-642088DF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EA7-E44D-4CF9-8387-D02B23C6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D81A3-B25A-4910-A0A4-76115C2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D5A43-EE08-433F-BD22-1252097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41F73-B9DB-4360-8D48-CBAAFBA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673A7-657A-4172-AE91-BF74FCC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CE599-68D6-4022-A6C6-DCBB5F9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51C5B-999E-4194-8491-0179F311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67CAC-0AC1-46FE-84DF-5AF1AB80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C77-9C05-4162-AB13-6CF30C85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5B0-A938-45B3-BF0C-2BD1DA61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5A2-9B57-4B0F-BCC4-E4C42B53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4FC-249D-49EE-9BEB-27F7724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B24-29EB-4B4F-B752-61FA605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266-065E-40A9-8D57-8B206EB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5D1-DB6D-44E3-8728-706C1CD9FB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436-F0F3-473D-893B-5D500D7799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3D41-8A68-402A-97B1-02A5AD01F11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8F9-5D5A-4C7A-9528-78A3EB7A8D1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95480" y="146844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61616"/>
                </a:solidFill>
                <a:latin typeface="Tahoma"/>
              </a:rPr>
              <a:t>Ejercicios  Lípid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27320" y="5661000"/>
            <a:ext cx="55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2000" spc="-1" strike="noStrike">
                <a:solidFill>
                  <a:srgbClr val="008600"/>
                </a:solidFill>
                <a:latin typeface="Arial"/>
              </a:rPr>
              <a:t>José Luis Sánchez Guill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849-F2CD-4FA5-8D27-8A033B4E544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6569-392C-4E9B-A67B-CCBCE410D8E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Diapositiva1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iapositiva1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6C2B-1C16-46B3-835E-0502A277AD5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" descr="Diapositiva2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iapositiva2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0AD-9E34-43D8-8A54-851228EDC51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645-29E0-4146-83F1-0C01B37EF49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DAF-78D4-4BB5-BAD1-C63BBCFC77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Diapositiva3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iapositiva3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AFC-FD1D-4B94-A03A-EC8AB1501D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9C4D-89E7-456F-A7D6-5E58B8F1320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Diapositiva4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F16A-3BE5-48DA-8255-5E7A8CCB6AA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AD78-5AA6-4A23-90D6-8D15A8960B0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iapositiva4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4F8-A4D7-4E55-B051-E4BEED0408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76B-C593-4E39-BF1C-3565AFEE5E1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3" descr="Diapositiva4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iapositiva4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314-7D71-42AB-BBBD-C83F9131113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Diapositiva5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apositiva5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28B-B122-44B3-84BB-2EFEA6EE30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935-979D-4AF6-B663-4D04740E40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Diapositiva3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iapositiva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AFFD-6BCB-4C82-B1DE-67D7B7F9D9F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3" descr="Diapositiva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iapositiva4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B59-5141-493E-B240-63DD5E50F45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" descr="Diapositiva5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iapositiva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C133-A04C-4180-8D36-1950A621592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" descr="Diapositiva7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apositiva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39B-C397-4BD0-8507-323F7C3865C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Diapositiva9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iapositiva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6ED-51B2-42EC-8195-0A88295DF1C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ABD-A1F7-4992-9A4F-9D8B62580C3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Diapositiva0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iapositiva0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85AE-9B56-4EBD-9842-76F8B73D1D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Diapositiva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iapositiva1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7B3-36C5-4E23-8114-AD980245242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Diapositiva1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iapositiva1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D4A-F787-4A58-9E32-552DF354010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273-BAB2-4E73-A37F-554C4D045E0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iapositiva2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iapositiva2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7E1-66BB-4EAF-A9A9-94D70B580C0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57:49Z</dcterms:created>
  <dc:creator>Alberto</dc:creator>
  <dc:description/>
  <dc:language>en-US</dc:language>
  <cp:lastModifiedBy>Alberto</cp:lastModifiedBy>
  <dcterms:modified xsi:type="dcterms:W3CDTF">2012-01-12T15:30:34Z</dcterms:modified>
  <cp:revision>15</cp:revision>
  <dc:subject/>
  <dc:title>Diapositiva 1</dc:title>
</cp:coreProperties>
</file>