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0710-55FF-405C-97B6-CF3815E68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C8D4-770C-429E-AE48-2CBED0B6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9546-CCE7-42A8-821A-F673A018A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D6E3-802A-4278-A5F0-12E1FFFAD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6798-E8AA-40AD-B42B-3285CB81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5C78-1A42-4C71-B447-3581721A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0568-4BD8-48E1-8F29-0858A548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2BFB-1C39-4655-8A5F-01EFB1DC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1674-CF27-427B-8741-F7A1F53F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E29A-DA82-498C-8A3E-DB1A0B27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AA95-052B-437D-95A1-67150507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E1DF-1A07-4158-B297-1DDF190B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AF94-883C-4A5B-9EE2-160DFE75869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DE28-D733-441B-A978-0082C235080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79800" y="1700280"/>
            <a:ext cx="3769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000000"/>
                </a:solidFill>
                <a:latin typeface="Arial"/>
              </a:rPr>
              <a:t>Ejercicio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000000"/>
                </a:solidFill>
                <a:latin typeface="Arial"/>
              </a:rPr>
              <a:t>Proteín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  <p:sp>
        <p:nvSpPr>
          <p:cNvPr id="44" name="5 Rectángulo"/>
          <p:cNvSpPr/>
          <p:nvPr/>
        </p:nvSpPr>
        <p:spPr>
          <a:xfrm>
            <a:off x="324000" y="5807160"/>
            <a:ext cx="62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Tahoma"/>
              </a:rPr>
              <a:t>Autor: </a:t>
            </a:r>
            <a:r>
              <a:rPr b="0" lang="es-ES" sz="1800" spc="-1" strike="noStrike">
                <a:solidFill>
                  <a:srgbClr val="008a3e"/>
                </a:solidFill>
                <a:latin typeface="Arial"/>
              </a:rPr>
              <a:t>José Luis Sánchez Guillé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Tahoma"/>
              </a:rPr>
              <a:t>adaptado para www.puedosermedic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7DDE-91C8-4C13-8C97-89CF9EE9B88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Diapositiva3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Diapositiva31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2956-7161-41FF-9020-95D11FA8C32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Diapositiva3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Diapositiva35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9AAE-2B9D-42EA-831E-63F3E64936C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Diapositiva36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Diapositiva37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6DC3-BC72-4240-8ABB-536F637F9B2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Diapositiva38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Diapositiva39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3C5C-88DD-4B9D-9F46-7BA7495C21F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Diapositiva4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Diapositiva41"/>
          <p:cNvPicPr/>
          <p:nvPr/>
        </p:nvPicPr>
        <p:blipFill>
          <a:blip r:embed="rId2"/>
          <a:stretch/>
        </p:blipFill>
        <p:spPr>
          <a:xfrm>
            <a:off x="118728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5BEF-5FAB-4D30-8216-6471B0F4F3D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Diapositiva42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Diapositiva43"/>
          <p:cNvPicPr/>
          <p:nvPr/>
        </p:nvPicPr>
        <p:blipFill>
          <a:blip r:embed="rId2"/>
          <a:stretch/>
        </p:blipFill>
        <p:spPr>
          <a:xfrm>
            <a:off x="118728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F7E3-B015-464E-B65E-E656FCAD46B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Diapositiva4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iapositiva45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2062-4451-4203-B867-DFDE80ED79D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Diapositiva46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Diapositiva47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34F3-15BA-4994-BC23-016B50BC30F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Diapositiva5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Diapositiva51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72D6-219E-4C23-8E7F-B19C5FFBA79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Diapositiva5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Diapositiva55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29B3-230A-4D2A-9BF2-04077E7F7E3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Diapositiva02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Diapositiva03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2026-5B77-48DB-9AD5-0B6B4409805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Diapositiva56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Diapositiva57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E879-888D-48DF-AA4F-203263F1736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Diapositiva58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Diapositiva59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0C53-9912-4676-B34C-43D24CD9170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Diapositiva6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Diapositiva61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973A-E8E8-4329-A5D5-A30C09A95B1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Diapositiva62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Diapositiva63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26BC-36B3-4C60-BC72-DBDB2AA04D9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Diapositiva66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Diapositiva67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AC9B-59BA-49E1-9936-951695D0A6C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Diapositiva7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Diapositiva71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F5D4-C3C3-423E-8990-90649A28205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Diapositiva72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Diapositiva73"/>
          <p:cNvPicPr/>
          <p:nvPr/>
        </p:nvPicPr>
        <p:blipFill>
          <a:blip r:embed="rId2"/>
          <a:stretch/>
        </p:blipFill>
        <p:spPr>
          <a:xfrm>
            <a:off x="118728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0EAB-02C3-426C-AE28-962568BBE3C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Diapositiva7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Diapositiva75"/>
          <p:cNvPicPr/>
          <p:nvPr/>
        </p:nvPicPr>
        <p:blipFill>
          <a:blip r:embed="rId2"/>
          <a:stretch/>
        </p:blipFill>
        <p:spPr>
          <a:xfrm>
            <a:off x="118728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9CE6-6A4A-4C4F-9AB3-84436F5CB3E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Diapositiva0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Diapositiva05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9A60-71D0-463C-8B42-DF5D225FC8A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Diapositiva06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Diapositiva07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E771-48C6-4A14-B856-2830F1023ED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Diapositiva1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Diapositiva11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E128-DABA-4345-B282-8C020652BFC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Diapositiva18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Diapositiva19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87280" y="907920"/>
            <a:ext cx="3672000" cy="77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¿Cuál de estos aminoácidos pertenecerá al grupo de aminoácidos neutros no polares e hidrófobos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EF6E-C53C-4D12-8714-491899EA351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Diapositiva2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Diapositiva21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187280" y="932040"/>
            <a:ext cx="3672000" cy="112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¿Cuál de estos aminoácidos pertenecerá al grupo de aminoácidos neutros polares sin carga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F410-9B44-440E-9D0A-17DB771CB37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Diapositiva22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Diapositiva23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52F8-F976-4371-A68F-FC58D05F639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Diapositiva2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Diapositiva25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5:11:18Z</dcterms:created>
  <dc:creator>Alberto</dc:creator>
  <dc:description/>
  <dc:language>en-US</dc:language>
  <cp:lastModifiedBy>Alberto</cp:lastModifiedBy>
  <dcterms:modified xsi:type="dcterms:W3CDTF">2012-01-12T15:39:40Z</dcterms:modified>
  <cp:revision>9</cp:revision>
  <dc:subject/>
  <dc:title>Diapositiva 1</dc:title>
</cp:coreProperties>
</file>