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DA65-8F84-4CF8-AFA8-CC331AA8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D55C-2694-42FE-9344-273FEF6F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A04B-5D91-4A44-82F0-0E457946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E81A-4112-41D0-B18B-B9285D27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F9BE-C376-4B48-A0A4-F8C191E7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9D6A-5D2B-4824-A69B-9E4E16F8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26C-FA76-4847-8725-ECA9D5A1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3D3-2D84-437D-B83E-252893DA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1C60-B7C0-4718-9C82-CA4F56BD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0FD7-7A55-449F-BEC4-84F2F34D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11E-FBA8-4C61-8AAF-2A23BE61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0966-8614-41DF-8319-EF8F3B45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4B57-182D-496D-B544-F0A5374FA73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CB6C-BA7B-4CE5-9534-5CE66B81399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79800" y="1700280"/>
            <a:ext cx="376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"/>
              </a:rPr>
              <a:t>Proteín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44" name="5 Rectángulo"/>
          <p:cNvSpPr/>
          <p:nvPr/>
        </p:nvSpPr>
        <p:spPr>
          <a:xfrm>
            <a:off x="324000" y="580716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Autor: </a:t>
            </a:r>
            <a:r>
              <a:rPr b="0" lang="es-ES" sz="1800" spc="-1" strike="noStrike">
                <a:solidFill>
                  <a:srgbClr val="008a3e"/>
                </a:solidFill>
                <a:latin typeface="Arial"/>
              </a:rPr>
              <a:t>José Luis Sánchez Guill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adaptado para www.puedosermedi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BE3D-20BB-4F5A-859D-3A32DA670DB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Diapositiva3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iapositiva3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0666-A024-4FDC-AC0A-C28330CAEBF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Diapositiva3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Diapositiva3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513C-2775-4BDA-A83A-B3DEEF306B4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iapositiva3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iapositiva3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B03E-9C39-4503-90AA-2CED6E5A43D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Diapositiva3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iapositiva3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A91A-1191-4780-99C8-E36766252E8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Diapositiva4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iapositiva41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5DD0-A060-4957-9003-94532A1FD56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Diapositiva4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Diapositiva43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B3F6-686C-4051-9E70-CB0A2061A49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Diapositiva4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iapositiva4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0715-0FAC-4087-854B-C26A1496EDE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Diapositiva4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Diapositiva4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E878-9DC2-438E-9A68-B5A928A74FA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Diapositiva5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Diapositiva5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267C-3C37-41CB-9A6A-BDFD21CD7F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Diapositiva5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iapositiva5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7187-77B9-44DD-9097-43A44624816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iapositiva0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Diapositiva0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B443-3168-46E9-A2A5-ED87686A169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Diapositiva5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Diapositiva5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2AAD-D127-403C-A538-D03C40E707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Diapositiva5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Diapositiva5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70B7-4B27-4189-9E7A-4B3897A9EF5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Diapositiva6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Diapositiva6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9E88-2D91-4283-B510-91603F1BB7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Diapositiva6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Diapositiva6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910C-C386-4A0F-AC6C-A88FEC83D8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Diapositiva6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Diapositiva6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18C6-F53E-456B-B3F6-B6AFBB286A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Diapositiva7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Diapositiva7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0754-7EF4-481E-B97B-3E1E901E809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Diapositiva7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Diapositiva73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900F-681B-4041-A0AA-90D05B00097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Diapositiva7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iapositiva75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F485-6A70-4F65-8E33-14E0663EB68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Diapositiva0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iapositiva0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DA01-B774-4A67-A982-D836A7936BF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Diapositiva0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Diapositiva0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DAE8-BB0A-49FE-9155-D0108F21E62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Diapositiva1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Diapositiva1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F8E2-8BA1-4945-844B-4159DF8F468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Diapositiva1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Diapositiva1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907920"/>
            <a:ext cx="367200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Cuál de estos aminoácidos pertenecerá al grupo de aminoácidos neutros no polares e hidrófobo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3405-2CA6-4620-B11A-9E7999F4217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Diapositiva2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Diapositiva2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87280" y="932040"/>
            <a:ext cx="3672000" cy="112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Cuál de estos aminoácidos pertenecerá al grupo de aminoácidos neutros polares sin carga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DBA6-2926-4342-B609-5DCC1A61FDB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Diapositiva2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Diapositiva2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5D18-243B-42E2-8226-4863CE2160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Diapositiva2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Diapositiva2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5:11:18Z</dcterms:created>
  <dc:creator>Alberto</dc:creator>
  <dc:description/>
  <dc:language>en-US</dc:language>
  <cp:lastModifiedBy>Alberto</cp:lastModifiedBy>
  <dcterms:modified xsi:type="dcterms:W3CDTF">2012-01-12T15:39:40Z</dcterms:modified>
  <cp:revision>9</cp:revision>
  <dc:subject/>
  <dc:title>Diapositiva 1</dc:title>
</cp:coreProperties>
</file>